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989-9C34-4C4B-890A-3234F01F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F04-185F-431B-A57F-3126414D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624-52A3-40BE-8615-F607CCEA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732-01E7-4D95-AD66-3E616B79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2FB-FEBF-4CE6-8031-45C6F783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1E1-3BB4-468B-B827-9458B5F4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625-3792-4ECF-831B-DCE99A1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A1E-C7E5-44ED-9621-A86CDCDC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1E1-655A-42E1-AF00-C0B4817D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2BC-C98E-487E-995D-FE655E0C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9B7-EFF3-4018-8F88-DF7CAC35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163-43FA-41CD-B7D2-6CE12C20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233B-21C8-4140-A7B1-E9D0B6DC8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eam Spor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eople play a team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team sport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have to do in order to be successful as a t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1738440" cy="1758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14600" y="4572000"/>
            <a:ext cx="2438280" cy="170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15200" y="4572000"/>
            <a:ext cx="16002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purpose of each of these it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200520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438280" cy="234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33920" y="1981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tic W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ype of tissue is represented by each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200520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438280" cy="2341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733920" y="1981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tic W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thel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563868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563868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 / Orga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group of different types of tissues that work together to perform a singl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group of organs that perform closely relate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name some organs found in the human bo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f the functions of these org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name the 11 organ systems found in the human bo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main functions of each organ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352520" cy="1424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1374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different organ systems are organized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17524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048120"/>
            <a:ext cx="35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Dige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Excre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Endoc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Im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962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895480"/>
            <a:ext cx="3429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er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u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kel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ircul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9680" y="1798560"/>
            <a:ext cx="8299440" cy="3103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400" y="491508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82800" y="491508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67840" y="4915080"/>
            <a:ext cx="13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78560" y="491508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54720" y="4915080"/>
            <a:ext cx="15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31840"/>
            <a:ext cx="63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35-2 Human Organ Systems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Part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4740480" cy="4983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1360" y="3208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98320" y="320832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0000" y="32083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re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3520" y="55879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2640" y="5587920"/>
            <a:ext cx="17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46040" y="558792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mphatic/Immune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231840"/>
            <a:ext cx="63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35-2 Human Organ Systems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Pa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1800" y="1600200"/>
            <a:ext cx="8782200" cy="3800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1520" y="3227400"/>
            <a:ext cx="29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m temperature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4572000"/>
            <a:ext cx="263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mostat senses temperature change and switches on he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78240" y="1752480"/>
            <a:ext cx="270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mostat senses temperature change and switches off he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3257640"/>
            <a:ext cx="37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m temperature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s of Feedback Inhib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955960" y="341280"/>
            <a:ext cx="420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Examples of Feedback Inhib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ow is Your Body a Tea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parts of your body must work together to keep you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one part does not function properly, then your body does not work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ke a look at the player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uman Body Systems</a:t>
            </a:r>
            <a:br>
              <a:rPr sz="5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apter 35.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vels of organization in a multicellular organism from smallest to larges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l→    tissue →     organ   →    organ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293840" cy="19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09680" y="3505320"/>
            <a:ext cx="1752840" cy="140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267080" y="3630600"/>
            <a:ext cx="1447920" cy="93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Nervous system"/>
          <p:cNvPicPr/>
          <p:nvPr/>
        </p:nvPicPr>
        <p:blipFill>
          <a:blip r:embed="rId4"/>
          <a:stretch/>
        </p:blipFill>
        <p:spPr>
          <a:xfrm>
            <a:off x="6172200" y="3352680"/>
            <a:ext cx="28195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872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let’s take a closer look at the play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2004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133720"/>
            <a:ext cx="51818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35287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structure and function in an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niquely suited to perform a parti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ells"/>
          <p:cNvPicPr/>
          <p:nvPr/>
        </p:nvPicPr>
        <p:blipFill>
          <a:blip r:embed="rId1"/>
          <a:stretch/>
        </p:blipFill>
        <p:spPr>
          <a:xfrm>
            <a:off x="1828800" y="3581280"/>
            <a:ext cx="548640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cells that perform a singl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basic types of t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body to mo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ithel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lands and tissues that cover interior and exterior body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vides support for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mits nerve im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691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4:49Z</dcterms:created>
  <dc:creator>bpalme</dc:creator>
  <dc:description/>
  <dc:language>en-US</dc:language>
  <cp:lastModifiedBy>Preferred Customer</cp:lastModifiedBy>
  <dcterms:modified xsi:type="dcterms:W3CDTF">2009-11-23T06:23:52Z</dcterms:modified>
  <cp:revision>22</cp:revision>
  <dc:subject/>
  <dc:title>What Is Science? Chapter 1.1</dc:title>
</cp:coreProperties>
</file>